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9E9-66E4-48CE-A0CE-AD7F54A3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6F2-59A9-469E-8CAB-6E48284B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46E-4B5E-452C-A605-3ADF09BD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C2D-4F0F-4C10-9D6E-9BD9E971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14C-1ADB-4431-9ED2-E121D9F2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6D43-E6D9-4956-ACCC-586A4ADE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3E9F-8660-4FE1-AC73-D079B13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B1C4-7FEA-4E4F-8C8D-D9F57FC7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32C-2D0F-4BD5-9143-684166EC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BD49-1CE7-46A4-B522-F918EAE2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2B20-B781-4835-9B64-68A7F7F1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D3F-7170-4CC5-9664-054074F3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3B80-13A2-4103-A749-DF6FD66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F249-480A-4F61-B520-6F6BFA6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021-5C5E-4754-BB3D-C39FB5DE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ACC2-EA78-429F-B898-23D714A0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66BB-5E37-42CD-9082-A3395B7F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F29-CF45-49FF-9914-F4037E7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382-CC1D-487A-BE35-D28BD52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006-4B99-470D-AEA0-E1A27E9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4A2-DC28-4F00-8660-84B1E284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879-F5E0-4359-B6B1-A193D94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704-028B-4F13-941F-68F5892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5BB-11FB-4CED-B341-1C93CB4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CAC-B290-4E39-B785-0155E8D3674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B92F-62BB-4FBA-A2D9-7DB9AECB2D1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Lesson Eigh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The best and the wors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9040" y="399960"/>
            <a:ext cx="841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oes the writer live in the same town as Jo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 What does Joe has go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 What does nearly everyone enter f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 How big is Bill Frith’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 Does Joe work harder than Bi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 Whose garden has more flowers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vegetabl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 What has Joe made in hi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8. What has he built over the p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. Does the writer like garde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. What does he lik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Tell the story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Joe Sanders---most---beautifu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2. nearly everyone---competition---each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year---Joe---every ti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. Bill Frith’s---larger---Joe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. Bill---harder---more---flowers-vegeta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 neat path---wooden bridge---p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6. I---gardens---but not---work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7. every year---enter---competition---alway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prize---worst garden---tow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86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Key to summary writing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Joe Sanders has the b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in town.He wins “The Nic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Competition”each year. Bill Frith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so has a fine garden. Joe’s is bette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The writer’s garden is terrible. H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ways wins a prize for the wors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garden in the tow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3640" y="857160"/>
            <a:ext cx="7940880" cy="3506040"/>
          </a:xfrm>
          <a:prstGeom prst="rect">
            <a:avLst/>
          </a:prstGeom>
          <a:noFill/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报名参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每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种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修筑整洁的小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一座木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辛勤的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获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48720" y="762120"/>
            <a:ext cx="41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ter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ery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grow 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e neat p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uild a wooden bri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in a pri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764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enter (one’s name , sb, oneself ) for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使）参加，报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参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约翰报名参加了考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我让学生报名参加口语测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95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hn entered himself for the examin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86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entered my students for the spoken English te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719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make ,bui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The car was ________ in Jap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A new road is being ________outside our hou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After he had the plane _________, it was tes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o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During the war Frank used to _________spare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or aero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3720" y="40291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7560" y="4486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48672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0960" y="5705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1:16:27Z</dcterms:created>
  <dc:creator/>
  <dc:description/>
  <dc:language>en-US</dc:language>
  <cp:lastModifiedBy>tyz</cp:lastModifiedBy>
  <dcterms:modified xsi:type="dcterms:W3CDTF">2003-04-13T02:01:20Z</dcterms:modified>
  <cp:revision>9</cp:revision>
  <dc:subject/>
  <dc:title>PowerPoint 演示文稿</dc:title>
</cp:coreProperties>
</file>